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6968-2FD5-4237-986C-C74BDCA0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FF3-D444-48A6-B458-164A7DA8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2FA-5DDE-4562-AD88-BFA4B7620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93F3-6468-4F7E-97E8-21578C7E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5F1-4707-4B09-A004-BD305A5B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9D84-05D2-4605-B4DC-7ED90F58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25B-ADA8-4C47-BA9B-02E33CD1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562E-3B72-4160-969A-68F6BB0F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207-AAEA-423B-A5B5-A87F2CAA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E35-8072-40B4-B327-12BD122D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B06-AB24-462B-9A6E-B860B3D9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97B0-E58A-45B0-A574-78FE2A9A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A949-C8CD-48FD-940B-7733FAFAB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776840"/>
            <a:ext cx="5562720" cy="2081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5562720" cy="20811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5627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1:30:37Z</dcterms:created>
  <dc:creator>Joel Kalb</dc:creator>
  <dc:description/>
  <dc:language>en-US</dc:language>
  <cp:lastModifiedBy>Joel Kalb</cp:lastModifiedBy>
  <dcterms:modified xsi:type="dcterms:W3CDTF">2007-05-12T21:45:19Z</dcterms:modified>
  <cp:revision>1</cp:revision>
  <dc:subject/>
  <dc:title>PowerPoint Presentation</dc:title>
</cp:coreProperties>
</file>